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5D14-EC35-4483-A47B-CC23A4B6A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61D3-927D-4993-A357-03A21C228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2A00-5C42-4CB4-87FD-0A1B6960F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A612-CCF8-4F5F-81C6-C26CF855B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1E55-E3DF-4461-844E-3D68C9A98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19CB-FD58-4555-BB58-EC313BB8E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F94C-46D9-488D-A75B-794C7F7D2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3594-8E67-4B34-8AAA-DFF6B341C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F673-1FAB-45FD-9D2F-D70640F40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7E32-A77A-4E91-A98F-40ADD0252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9E78-28BD-4961-900B-384FF4B50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7E25-FEA4-4CD9-811C-5A13445EF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5C1E-90AE-43F2-BB82-343B30E7C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5A16-A214-4AFF-954A-5FCE73C1C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CC93-7710-4488-BEA3-C2336D81A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9690-2829-4542-9614-EE04AD013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2265-BD8D-410A-ACFF-605709997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97F2-3A8D-40A3-B25D-24441A95B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74EE-C541-48CD-A042-5996B9F77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144B-67D6-4F31-83E0-22D4D9849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A530-3E78-4B48-8DD5-657211F9C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2C5-0DBF-4CA2-908F-F4DE6F4D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7A7-FF8A-44BF-908B-A3B7A1F5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A23B-8FF1-456E-8717-3CB58E39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B37-CB06-425F-868C-F5C7223A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B105-F5A9-4E8F-ACFC-E2AD3449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4004-F264-4787-AF95-D10D9EF8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523E-78FB-4A16-B4E4-C16883E2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8EA9-BFD6-4F93-BB7B-4C97F32B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F804-8BBB-499B-A764-44BF73EF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C263-1BB4-4B6D-ABF1-3F667ECF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DE38-08A3-404B-8949-9E25ABEF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58D-EAD8-460B-9155-70AB68C5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9003-2881-4431-8039-36AC573D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6B5C-0256-46AC-A0E1-1C7B25A4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F7DB-D33F-4DDB-9613-11EB848B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A0A2-5847-481A-9DBD-40FA2D4B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1D98-85AC-47DB-8AF7-ABFBC2A0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7F4-977A-4E6C-96D4-C20DBAFF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41A-5DE8-430D-8C9D-6662C79A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373-D6EF-41A3-B7AA-CDCD9376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FE3-661E-42F8-ACEB-CFD4E381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40A-9F85-468D-B153-A7FDB5FB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396-CB22-4905-A687-86B5A87D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A65-6E6B-474B-9C23-DF5E7F2B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DBC4-EE02-4626-A6F6-8BD262CA0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A50B-BC66-4281-A607-E125D7255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4520"/>
            <a:ext cx="7772400" cy="92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Registration for 2014-2015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s, AP, NCVPS Online, &amp; HCC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AP Clas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to take the AP exam @ a cost of $89 per exam (could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-level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students for rigor of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t. class for G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arn college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 should take AP Clas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meet the prerequisi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th excellent time 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are self-motivated and independent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commitment to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understand the work will be more rigorous and involve more out of class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MC900434409[1]"/>
          <p:cNvPicPr/>
          <p:nvPr/>
        </p:nvPicPr>
        <p:blipFill>
          <a:blip r:embed="rId1"/>
          <a:stretch/>
        </p:blipFill>
        <p:spPr>
          <a:xfrm>
            <a:off x="6629400" y="5105520"/>
            <a:ext cx="762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is taken with a 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ourse commitment form pe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VPS Online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taken online with a non-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urses not offered f-to-f at 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CVPS course commitm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 Face-to-face COUR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ght by PHS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meet prerequisites of each course (see the course commitment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n AP prep elective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ester / 5 points) with AP course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ester / 6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otential Face-to-face Cours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809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Juni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English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U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1980720"/>
            <a:ext cx="3810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eni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English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14400" y="7086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175280" y="151128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143000" y="5715000"/>
            <a:ext cx="7848720" cy="429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*An additional elective will be paired with each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NCVP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Online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680" y="1981080"/>
            <a:ext cx="3810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5, on the recommendation of the North Carolina e-Learning Commission, the General Assembly established the North Carolina Virtual Public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05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e North Carolina Virtual Public School (NCVPS) is to provide e-learning opportunities to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thorizing legislation for NCVPS states: “NCVPS shall be available at no cost to all students in North Carolina who are enrolled in NC’s public sch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Things to Consider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urse offerings are only courses NOT taught at 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NCVPS courses will count as electiv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must have a 3.0 or higher GPA to take an online class, plus additional requirements of NCVPS, and 2 teacher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AND COMMUNICATION IS COMPLETED ELECTRON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could be located anywhere across the state; will not be a Pisgah teacher, and there will not be a Pisgah teacher responsible for assisting these students.  There WILL be a site-based facilitator for technic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VPS’s grading periods do not match PHS – MUST MONITOR GRADES CAREFULLY!  Students (and parents) can do this on the NCVPS site with passwo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1295280" y="10666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3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my and 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3627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nors On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Title 6"/>
          <p:cNvSpPr/>
          <p:nvPr/>
        </p:nvSpPr>
        <p:spPr>
          <a:xfrm>
            <a:off x="5148360" y="380880"/>
            <a:ext cx="3627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n Honors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7356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 American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ese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i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rin Chine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eval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 Pr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 Courses Offered ON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Human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Europea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Government and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990720" y="56386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Online AP Courses are year-long and must be paired with another NCVPS AP course or two HCC courses (one per sem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rse Commitment For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turn to applicable teacher by Friday, Feb.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ng-up for course commits you to that course, if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know numbers in order to determine the number of sections o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commits student(s) to class; if they pre-register and then change their mind, numbers and sections are unbalanced and other classes over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Introductions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430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se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i Mills (A-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i Lawing (H-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esa Heinz (P-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 Tea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arly In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S AP 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English III – Tabitha J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US History – Tiffany Tu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English IV – Shannon Ha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Calculus – Mary Med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Biology – Greg T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bd00028_"/>
          <p:cNvPicPr/>
          <p:nvPr/>
        </p:nvPicPr>
        <p:blipFill>
          <a:blip r:embed="rId1"/>
          <a:stretch/>
        </p:blipFill>
        <p:spPr>
          <a:xfrm>
            <a:off x="2362320" y="1600200"/>
            <a:ext cx="4952880" cy="4851360"/>
          </a:xfrm>
          <a:prstGeom prst="rect">
            <a:avLst/>
          </a:prstGeom>
          <a:ln w="0">
            <a:noFill/>
          </a:ln>
        </p:spPr>
      </p:pic>
      <p:sp>
        <p:nvSpPr>
          <p:cNvPr id="191" name="WordArt 5"/>
          <p:cNvSpPr txBox="1"/>
          <p:nvPr/>
        </p:nvSpPr>
        <p:spPr>
          <a:xfrm>
            <a:off x="1752480" y="990720"/>
            <a:ext cx="670572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HCC</a:t>
            </a:r>
            <a:br>
              <a:rPr sz="9600"/>
            </a:b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COURSES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do we mee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/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Deliver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Commitmen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4186080"/>
            <a:ext cx="3200400" cy="309600"/>
          </a:xfrm>
          <a:prstGeom prst="rect">
            <a:avLst/>
          </a:prstGeom>
          <a:solidFill>
            <a:srgbClr val="5cad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ubtitle 2"/>
          <p:cNvSpPr/>
          <p:nvPr/>
        </p:nvSpPr>
        <p:spPr>
          <a:xfrm>
            <a:off x="4600440" y="4186080"/>
            <a:ext cx="3200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2"/>
          <p:cNvSpPr/>
          <p:nvPr/>
        </p:nvSpPr>
        <p:spPr>
          <a:xfrm>
            <a:off x="1378080" y="3538440"/>
            <a:ext cx="6395760" cy="304920"/>
          </a:xfrm>
          <a:prstGeom prst="rect">
            <a:avLst/>
          </a:prstGeom>
          <a:solidFill>
            <a:srgbClr val="a5b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Brace 8"/>
          <p:cNvSpPr/>
          <p:nvPr/>
        </p:nvSpPr>
        <p:spPr>
          <a:xfrm rot="5400000">
            <a:off x="4295520" y="1447560"/>
            <a:ext cx="609480" cy="3200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200400"/>
              <a:gd name="textAreaBottom" fmla="*/ 318456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3762360" y="5791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ight Brace 11"/>
          <p:cNvSpPr/>
          <p:nvPr/>
        </p:nvSpPr>
        <p:spPr>
          <a:xfrm rot="5400000">
            <a:off x="4181400" y="3619440"/>
            <a:ext cx="838080" cy="3200400"/>
          </a:xfrm>
          <a:custGeom>
            <a:avLst/>
            <a:gdLst>
              <a:gd name="textAreaLeft" fmla="*/ 0 w 838080"/>
              <a:gd name="textAreaRight" fmla="*/ 302760 w 838080"/>
              <a:gd name="textAreaTop" fmla="*/ 21600 h 3200400"/>
              <a:gd name="textAreaBottom" fmla="*/ 31788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6"/>
                  <a:pt x="10800" y="471"/>
                </a:cubicBezTo>
                <a:lnTo>
                  <a:pt x="10800" y="10329"/>
                </a:lnTo>
                <a:cubicBezTo>
                  <a:pt x="10800" y="10565"/>
                  <a:pt x="16200" y="10800"/>
                  <a:pt x="21600" y="10800"/>
                </a:cubicBezTo>
                <a:cubicBezTo>
                  <a:pt x="16200" y="10800"/>
                  <a:pt x="10800" y="11036"/>
                  <a:pt x="10800" y="11271"/>
                </a:cubicBezTo>
                <a:lnTo>
                  <a:pt x="10800" y="21129"/>
                </a:lnTo>
                <a:cubicBezTo>
                  <a:pt x="10800" y="213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3749760" y="20908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lray.HAYWOOD\Local Settings\Temporary Internet Files\Content.IE5\9XOAL1B9\MC900445568[1].wmf"/>
          <p:cNvPicPr/>
          <p:nvPr/>
        </p:nvPicPr>
        <p:blipFill>
          <a:blip r:embed="rId1"/>
          <a:stretch/>
        </p:blipFill>
        <p:spPr>
          <a:xfrm>
            <a:off x="676440" y="554040"/>
            <a:ext cx="2189160" cy="18907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2362320" y="59364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each AP Class, per teach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200400" y="12193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AP class takes 2 blocks: 1-per seme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Honors Course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Honors cour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pt. class – G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igorous than standar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different prerequisites and require teacher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ester long courses – 1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nors Courses Delivery O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ght by 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ourse commitment form pe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VPS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s taken online with non-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urses not offered f-to-f at 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CVPS course commitm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itional Honors O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h to Broadway (see K. Med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III/IV – only taught as honors      (see C. DeGr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C III/IV (see Commander Wea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 III/ IV – only taught as honors (see A. Stew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AP Course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20:18:41Z</dcterms:created>
  <dc:creator>COMPUTER COORDINATOR</dc:creator>
  <dc:description/>
  <dc:language>en-US</dc:language>
  <cp:lastModifiedBy>Sharon Case</cp:lastModifiedBy>
  <cp:lastPrinted>2014-02-17T21:29:09Z</cp:lastPrinted>
  <dcterms:modified xsi:type="dcterms:W3CDTF">2014-02-18T19:08:54Z</dcterms:modified>
  <cp:revision>47</cp:revision>
  <dc:subject/>
  <dc:title>Registration for 2010-2011</dc:title>
</cp:coreProperties>
</file>