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90C9-922D-4E13-AA64-641B87B18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CD7D-38A8-4706-A24E-F43408BD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F20E-221C-4F16-B143-CC05AB095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2F2C-052C-4B36-9304-942B6F4DE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C8FC-CFE7-4FB6-944C-40CB5E0A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5E8F-9B1A-492F-A41E-BFB33DB6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3D49-E838-45D4-B18C-3ADE71BA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ACB2-84DA-41B3-9A75-42C9992D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B10C-3882-4B8E-8E34-3315DA9D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41AA-ACED-40ED-A906-D7914E28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C9AE-2C82-43E9-9988-4C188E83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D34C-D087-47DB-B836-D337FCD6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D8C3-43B6-4494-A91B-7DEA78D33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edia.vcstar.com/media/img/photos/2009/10/29/mileycyrus_t607.jpg&amp;imgrefurl=http://www.vcstar.com/photos/2009/oct/29/78627/&amp;usg=__LqQ9Hnwv1tLSlulsF14H9f81HAs=&amp;h=912&amp;w=607&amp;sz=142&amp;hl=en&amp;start=331&amp;itbs=1&amp;tbnid=cZFPwszVe8qITM:&amp;tbnh=147&amp;tbnw=98&amp;prev=/images%3Fq%3Dmiley%2Bcyrus%2Bdisdney%26gbv%3D2%26ndsp%3D20%26hl%3Den%26safe%3Dactive%26sa%3DN%26start%3D320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edia.vcstar.com/media/img/photos/2009/10/29/mileycyrus_t607.jpg" TargetMode="External"/><Relationship Id="rId2" Type="http://schemas.openxmlformats.org/officeDocument/2006/relationships/hyperlink" Target="http://www.statesymbolsusa.org/Tennessee/Bird_Mockingbird.html" TargetMode="External"/><Relationship Id="rId3" Type="http://schemas.openxmlformats.org/officeDocument/2006/relationships/hyperlink" Target="http://www.roadsideamerica.com/story/14405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ate of Tennessee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“The Volunteer State”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54864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Angel Putn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124080" y="2819520"/>
            <a:ext cx="2613240" cy="24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ck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stol is known as the Birthplace of Country Musi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nessee has more than 3,800 documented cav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more horses per capita in Shelby County than any other county in the United Sta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ity of Murfreesboro lies in the exact geographical center of the st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ennessee became a state in 1796, the total population was 77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Sym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te bird of Tennes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Mockingbi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Photo of Northern Mockingbird"/>
          <p:cNvPicPr/>
          <p:nvPr/>
        </p:nvPicPr>
        <p:blipFill>
          <a:blip r:embed="rId1"/>
          <a:stretch/>
        </p:blipFill>
        <p:spPr>
          <a:xfrm>
            <a:off x="5977080" y="3429000"/>
            <a:ext cx="2598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ous Pe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ey Cy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was born in Nashville, Tennessee and she is 16 years 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1752480"/>
            <a:ext cx="3200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urist At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Towing and Recovery Museum Chattanooga, Tennessee. The history of tow trucks, complete with many exhibits; a wall of the Fallen honors those who died in the line of du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International Towing and Recovery Museum"/>
          <p:cNvPicPr/>
          <p:nvPr/>
        </p:nvPicPr>
        <p:blipFill>
          <a:blip r:embed="rId1"/>
          <a:stretch/>
        </p:blipFill>
        <p:spPr>
          <a:xfrm>
            <a:off x="6019920" y="4721400"/>
            <a:ext cx="291456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edia.vcstar.com/media/img/photos/2009/10/29/mileycyrus_t607.j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tatesymbolsusa.org/Tennessee/Bird_Mockingbird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roadsideamerica.com/story/144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map-of-usa.co.uk/images/tennessee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16:44:06Z</dcterms:created>
  <dc:creator> Computer Coordinator</dc:creator>
  <dc:description/>
  <dc:language>en-US</dc:language>
  <cp:lastModifiedBy> Computer Coordinator</cp:lastModifiedBy>
  <dcterms:modified xsi:type="dcterms:W3CDTF">2010-03-10T16:57:35Z</dcterms:modified>
  <cp:revision>6</cp:revision>
  <dc:subject/>
  <dc:title>Slide 1</dc:title>
</cp:coreProperties>
</file>