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62D-DF80-4A1A-8882-483C9D13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C0A-3405-474E-952E-9410012B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450-96C6-4E6C-8EF6-FE159201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C72-F3DC-4728-A588-30EF8A44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520-395E-4401-BFC6-D1A0AFD5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FA5-9204-490F-BCAA-B0455553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304-A4B6-4BD2-BB0B-19798D7B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EFA-0D80-485A-929E-9D761A5B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4AF-E6E2-483F-A373-F4D777D4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C1D-0988-44B4-8670-027E14BF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0C1-00F5-4F1C-8A4B-259C0CA0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BE3-2294-473F-ADD2-FEE348BD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BFB2-CC99-47DB-A3A4-C48905FC0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auracandler.com/mmf/MasteringMathFactsMDSample.pd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tacnews.vcu.edu/2012/02/developing-math-fact-fluency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-5mathteachingresources.com/3rd-grade-number-activities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4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act fl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 fluency, we mean knowing a math fact with automaticity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?-- is often the question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Fast Math by Scholastic, students should know it within .8 of a second.  I have read elsewhere that 3 seconds is recommended by Common C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much like students know their sight words without thinking about them...that is how we want students to know their math facts. 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fact fluency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auracandler.com/mmf/MasteringMathFactsMDSampl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nowing facts fluently, students free up their working memory to work on more difficult steps and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her than recreating 8 x 6 in their mind and using a strategy every single time they see this fact, students must have fact fl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fact fluency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ep to fact fluency is having a strong conceptual understanding of the fact strategies (doubles, doubles + 1, using combinations of 10, et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xpected of my chil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Required Fluency Expectations According to Common Co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Add and subtract within f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Add and subtract within 20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monstrating fluency for addition and subtraction within 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 and subtract within 20 using mental strategies. By end of Grade 2, know from memory all sums of two one-digit number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nd subtract within 100 using strategies based on place value, properties of operations, and/or the relationship between addition and subtra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 Multiply and divide within 100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the end of Grade 3, know from memory all products of two one-digit number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nd subtract within 1000 using strategies and algorithms based on place value, properties of operations, and/or the relationship between addition and subtra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 Add and subtract multi-digit whole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 Multiply multi-digit whole numbe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I do to help my child become a more fluent mathematici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facts with your child in a variety of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r child set a goal and help your child reach that goal; set new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competitions and celeb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to the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facts in frequently visited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earning the facts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kip counting/use a hundred’s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tacnews.vcu.edu/2012/02/developing-math-fact-fluency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resources to help my child with fact flu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-5mathteachingresources.com/3rd-grade-number-activiti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ttps://sites.google.com/site/bestnextcommoncoremath/xtra-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ttp://www.k-5mathteachingresour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ebsites where kids ca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athmagicia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ultiplicati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athwi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k-2mathapps.blogspot.com/p/fact-fluency-practic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9:34:16Z</dcterms:created>
  <dc:creator>Kids</dc:creator>
  <dc:description/>
  <dc:language>en-US</dc:language>
  <cp:lastModifiedBy>Ira Hyde</cp:lastModifiedBy>
  <dcterms:modified xsi:type="dcterms:W3CDTF">2013-11-15T13:25:01Z</dcterms:modified>
  <cp:revision>19</cp:revision>
  <dc:subject/>
  <dc:title>Fact Fluency</dc:title>
</cp:coreProperties>
</file>